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60E8-0AD6-4DB9-BAA1-E75E2F9F0B8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56C-D1C2-4AA8-890B-9B91E55CF74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DAD-205E-4453-B841-648F8931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9D5-E041-4CA0-A409-7CEA8CD4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B66-C5A8-49D8-A58A-24598B51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767-B72E-45F9-8DA6-E2244319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627-CEB7-47DF-BF27-CB70593A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D4F-1F46-4D2A-B658-1EF939C9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7B2-082F-4D22-BF53-D2575B3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49D-A2A3-4965-B87B-D44FB2D5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498-7722-47F0-8C3D-BC5A1F1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6C4-F402-405C-BF9E-5315FC6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E2A-CF21-4047-9876-F05DD96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945-F200-44F9-BF31-5A8F9B1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422-DDA6-4257-8AE0-B1C719BE0C7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rientirane.mon.b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96640"/>
            <a:ext cx="9036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ПОЛИТИКИ И МЕРКИ 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ЗА РЕАЛИЗИРАНЕ НА НПИЕГМ</a:t>
            </a:r>
            <a:br>
              <a:rPr sz="2800"/>
            </a:br>
            <a:r>
              <a:rPr b="1" lang="bg-BG" sz="2800" spc="-1" strike="noStrike">
                <a:solidFill>
                  <a:srgbClr val="1f497d"/>
                </a:solidFill>
                <a:latin typeface="Verdana"/>
              </a:rPr>
              <a:t>ЧРЕЗ ОБРАЗОВАНИ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5516640"/>
            <a:ext cx="7272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Министерство на образованието и нау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Arial"/>
                <a:ea typeface="Times New Roman"/>
              </a:rPr>
              <a:t>София, 30 май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169236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дентифициране на причините за отпадане/напускане на образованието и на групите лица от 15 до 18/19 годишна възраст, застрашени от отпадане/напуск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лагане на система за ранно предупреждение за риск от отпадане от предучилищно и училищно образ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на среда за задържане в образование на лица в риск от отпадане – национални програми за развитие на образованиет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игуряване възможности за образование и обучение във форми, различни от дневна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авоъгълник 2"/>
          <p:cNvSpPr/>
          <p:nvPr/>
        </p:nvSpPr>
        <p:spPr>
          <a:xfrm>
            <a:off x="1979640" y="453960"/>
            <a:ext cx="7669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системата за кариерно ориентиране и консултиране на младите х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иране на обучение чрез работа – „дуално обучение“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материални условия за професионална квалификация на млади хора, отпаднали или преждевременно напуснали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на информация между институциите и  заинтересованите страни  и определяне на „ролите“ и отговорностите на всяка от 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598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Arial"/>
              </a:rPr>
              <a:t>Мерки и дейности срещу отпадането/напускането на образование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35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Някои конкретни резултати от политиките и мерките, реализирани от МО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861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Calibri"/>
              </a:rPr>
              <a:t>модел на система за ранно предупреждение на територията на Северозападния и Югоизточния райони от ниво 2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работен и въведен за апробиране на модела на територията на Северозападния и Югоизточния райони от ниво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веден през 2016/2017 учебна година в 9-те области: Видин, Враца, Ловеч, Монтана и Плевен; Бургас, Сливен, Стара Загора и  Ямб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 19 общини от 9-те области, подбрани СЪВМЕСТНО  от РУО и кметовете на общини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50 институции в тези общини – СЪВМЕСТНО  от РУО и общините – наблюдават се деца и ученици от 5/6 до 18 819 годишна въ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едстои през учебната 2017/2018 увеличаване броя на общините до 30, на институциите до 200, вкл. до 50 детски градин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65160" y="1564920"/>
            <a:ext cx="686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на форма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над 16 годишна възраст -най-висок дял сред формите, извън дневна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-записани почти 12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5/2016 учебна година -над 15 3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през 2014/2015 година - над 18 8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Задоч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учебната 2016/2017 – записани са над 12 600 учениц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две предходни учебни година -между 13 000 и 14 000 душ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Вечерна фор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2016/2017 година – записани са близо 4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5/2016 – близо 5000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014/2015 – близо 700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6635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Arial"/>
                <a:ea typeface="Arial"/>
              </a:rPr>
              <a:t>Прилагане на форми за обучение, различни от дневната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1f497d"/>
                </a:solidFill>
                <a:latin typeface="Arial"/>
                <a:ea typeface="Arial"/>
              </a:rPr>
              <a:t>по данни на ЦИОО към 15.09.2017 година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6718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учение чрез работа/дуално обучение през учебната 2016/2017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1341000"/>
            <a:ext cx="71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есионални гимназ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д 660 ученици са обхванати в дуално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ургас – 2 ПГ - 4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Варна  - 1 ПГ – 1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раца – 2 ПГ – 28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Ветово /Русе -1 СУ-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Габрово -1 ПГ – 37 души по 2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Добрич – 1ПГ – 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Казанлък/Стара Загора – 1 ПГ -2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анагюрище/Пазарджик – 1 ПГ -103 души в 8 специал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ерник – 1 ПГ -26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евен – 1 ПГ – 13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Пловдив – 2 ПГ – 25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ливен – 2 ПГ – 52 душ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- София-град – 4 ПГ – 147 душ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 проект „Система за кариерно ориентиране в училище“, ОП РЧ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 Национален портал за кариерно ориентиране на учениците –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entirane.mon.bg –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д 1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100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 000 посетени страници, над 90 000 регистрирани ученици, ползвали информационно-търсещата систем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зкрити, обзаведени и оборудвани 28 центъра за кариерно ориентиране (ЦКО) със седалища в областните административни центр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аети и сертифицирани за дейности по кариерно консултиране 150 кариерни консултанти в 28 ЦК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включени 535 428 ученици-бенефициенти по проекта (по план -  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02 779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- 106% изпълнение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здадени са информационни и методически ресурси за работа по кариерно ориентиране с учениците – 80 интерактивни упражнения за учениците от 6 до 12 клас; 30 филми за кариерно ориентиране за учениците от 1 до 12 клас; Каталози с информационни характеристики на професиите и профилите, които се изучават в средното образование; Наръчник на кариерния консултан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Кариерно ориентиране и консулти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тартира Проект „Система за кариерно ориентиране в училищното образование“ – по ОП „Наука и образование за интелигентен растеж“ 2014-2020 – за 120 000 ученици, по който с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, апробира и се прилага модел за кариерно ориентиране на учениците в училище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с заповед на министъра на образованието и науката (м. август 2016 г) - утвърдени 42 пилотни училища  - основни, средни, профилирани и професионални гимназии, специални училища  от 28 административни области за апробиране на темите от Програмата за кариерно ориентиране на учениците на ниво училищ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създава се модул „Училище–пазар на труда“ към Националния портал за кариерно ориентиране (</a:t>
            </a:r>
            <a:r>
              <a:rPr b="1" lang="bg-BG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rientirane.mon.bg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) за информиране и ориентиране относно възможностите за трудова и професионална реализация за завършващите средно образование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разработват се инструменти за ранно кариерно ориентиране на застрашените от отпадане ученици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адаптират се създадени информационни и диагностични ресурси за кариерно ориентиране за нуждите на ученици със СО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Някои пробле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различните нюанси в определянето на основните понятия и тяхното тълку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надеждна информация за съотношението на регистрираните в службите ГРАОН и реално намиращите са на територията на Р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липсата на информация за децата и учениците „заминали в чужбина“ – продължават ли образованието си или не, те са най-голям брой от категорията „напуснали“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начален етап на изграждане на единен механизъм в процеса на издирване и привличане на отпаднали и/или никога не посещавали училище чрез системата за ранно предупреждение за риск от отпадане от предучилищното и училищното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механизмите за комуникация  със семействата и възможностите за коригиране на ценностната им систем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категоричното обвързване на професионална квалификация с реалностите на бизнеса и производството, повече ангажираност от бизн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…</a:t>
            </a: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и перспективите за реша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Постепенното въвеждане на територията на страната на системата за ранно предупреждение ка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ъзможност за идентифициране на конкретните лица в риск и отпадналите от конкретната институция, дефиниране на риска и определяне на конкретна програма с конкретни отговорници и срокове за точно това дете/ученик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следяване в реално време развитието на това дете/ученик; ефективността на предприетите мерки и възможностите за коригирането им; движението от една в друга институц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Calibri"/>
              </a:rPr>
              <a:t>Засилване ролята на дуалното обучение з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ивличането и задържането в професионално обучение и квалификация с перспектива з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нгажирането на бизнеса с процеса на квалификация на кадри според неговите изисквания и потребности – наемане на рабо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Специалности, които се търсят и са конкурентноспособни на пазара на тру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Arial"/>
              </a:rPr>
              <a:t>Законодателн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едучилищното и училищното образ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Държавни образователни стандар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професионалното образование и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Закон за закрила на дете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25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836640"/>
            <a:ext cx="7021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1f497d"/>
                </a:solidFill>
                <a:latin typeface="Arial"/>
                <a:ea typeface="Times New Roman"/>
              </a:rPr>
              <a:t>Стратегическа ра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294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намаляване дела на преждевременно напусналите образователната система – 2013-2020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Стратегия за развитие на професионалното образование и обучение в Р България за периода 2015-2020 годин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0000"/>
                </a:solidFill>
                <a:latin typeface="Arial"/>
              </a:rPr>
              <a:t>Планове за изпълнение на стратегическите докумен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0" y="476280"/>
            <a:ext cx="87138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ЕН КОЕФИЦИЕНТ НА ЗАПИСВАНЕ НА НАСЕЛЕНИЕТО В ОБРАЗОВАТЕЛНАТА СИСТЕМА - Н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413000"/>
          <a:ext cx="8713800" cy="5392440"/>
        </p:xfrm>
        <a:graphic>
          <a:graphicData uri="http://schemas.openxmlformats.org/drawingml/2006/table">
            <a:tbl>
              <a:tblPr/>
              <a:tblGrid>
                <a:gridCol w="3162240"/>
                <a:gridCol w="1425600"/>
                <a:gridCol w="1349280"/>
                <a:gridCol w="1425600"/>
                <a:gridCol w="1351080"/>
              </a:tblGrid>
              <a:tr h="68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3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4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6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580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 нетни коефициенти</a:t>
                      </a:r>
                      <a:r>
                        <a:rPr b="1" lang="ru-RU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по степени на образованието според МСКО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24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училищно образование (МСКО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9876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чално образование (I-IV клас‚ МСКО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7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гимназиално образование (V-VIII клас‚ МСКО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7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22320">
                <a:tc>
                  <a:txBody>
                    <a:bodyPr lIns="11448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Средно образование (IX-XIII клас‚ МСКО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8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5360">
                <a:tc gridSpan="5">
                  <a:txBody>
                    <a:bodyPr lIns="1144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 baseline="30000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Груповите коефициенти са изчислени в проценти като отношение на броя на учащите по степени във възрастовите групи 3-6‚ 7-10‚ 11-14‚ 15-18‚ 19-20‚ 19-21 и 19-23 години към броя на населението в същите възрастови груп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ял по напусналите образователната система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 по причини – от НСИ за последните 3 учебни години –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3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14 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до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2200" spc="-1" strike="noStrike">
                <a:solidFill>
                  <a:srgbClr val="1f497d"/>
                </a:solidFill>
                <a:latin typeface="Calibri"/>
              </a:rPr>
              <a:t>/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Content Placeholder 3"/>
          <p:cNvGraphicFramePr/>
          <p:nvPr/>
        </p:nvGraphicFramePr>
        <p:xfrm>
          <a:off x="128520" y="1865160"/>
          <a:ext cx="88869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865160"/>
                    <a:ext cx="8886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Дял на напусналите по причини – гимназиална степ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Тенденции през последните три учебни год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най-висок дял на напусналите – по семейни причини  -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9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2013/2014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4/2015; </a:t>
            </a:r>
            <a:r>
              <a:rPr b="0" lang="bg-BG" sz="2400" spc="-1" strike="noStrike">
                <a:solidFill>
                  <a:srgbClr val="ff0000"/>
                </a:solidFill>
                <a:latin typeface="Calibri"/>
              </a:rPr>
              <a:t>42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- 2015/201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следва – поради нежелание – дял между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5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bg-BG" sz="2400" spc="-1" strike="noStrike">
                <a:solidFill>
                  <a:srgbClr val="c0504d"/>
                </a:solidFill>
                <a:latin typeface="Calibri"/>
              </a:rPr>
              <a:t>27%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през последната учебна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1%, 20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2400" spc="-1" strike="noStrike">
                <a:solidFill>
                  <a:srgbClr val="953735"/>
                </a:solidFill>
                <a:latin typeface="Calibri"/>
              </a:rPr>
              <a:t>24%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заминали в чуж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периода  2013-2016г.</a:t>
            </a:r>
            <a:br>
              <a:rPr sz="20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сравнение на стойностите му за България със средните за ЕС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Content Placeholder 3"/>
          <p:cNvGraphicFramePr/>
          <p:nvPr/>
        </p:nvGraphicFramePr>
        <p:xfrm>
          <a:off x="-50760" y="1938240"/>
          <a:ext cx="9137520" cy="47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938240"/>
                    <a:ext cx="913752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Дял на преждевременно напусналите образователната система за 201</a:t>
            </a:r>
            <a:r>
              <a:rPr b="1" lang="bg-BG" sz="2400" spc="-1" strike="noStrike">
                <a:solidFill>
                  <a:srgbClr val="4f81bd"/>
                </a:solidFill>
                <a:latin typeface="Calibri"/>
              </a:rPr>
              <a:t>5 г.  и за 2016  г. </a:t>
            </a:r>
            <a:r>
              <a:rPr b="1" lang="bg-BG" sz="2400" spc="-1" strike="noStrike">
                <a:solidFill>
                  <a:srgbClr val="0070c0"/>
                </a:solidFill>
                <a:latin typeface="Calibri"/>
              </a:rPr>
              <a:t>по райони на планиране в Р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Content Placeholder 7"/>
          <p:cNvGraphicFramePr/>
          <p:nvPr/>
        </p:nvGraphicFramePr>
        <p:xfrm>
          <a:off x="200160" y="1577880"/>
          <a:ext cx="88153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577880"/>
                    <a:ext cx="88153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сновни политики за изпълнение на НПИЕГ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отпадналите/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намаляване дела на преждевременно напусналите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качеството на образованието с акцент върху професионалното образование, обучение и професионална квалификация  на лицата в риск от отпадане и преждевременно напуснатите  образователната систе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одобряване на връзките и взаимодействието между институциите и другите заинтересовани страни в системата на образованието за задържане/повторно обхващане в обучение, образование, квалифик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05:51Z</dcterms:created>
  <dc:creator>User</dc:creator>
  <dc:description/>
  <dc:language>en-US</dc:language>
  <cp:lastModifiedBy>Iskren Angelov</cp:lastModifiedBy>
  <cp:lastPrinted>2017-05-29T06:32:15Z</cp:lastPrinted>
  <dcterms:modified xsi:type="dcterms:W3CDTF">2017-07-11T17:49:40Z</dcterms:modified>
  <cp:revision>163</cp:revision>
  <dc:subject/>
  <dc:title>PRESENTATION  NAME</dc:title>
</cp:coreProperties>
</file>